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65F-2375-4BD1-83B8-0ED573F0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A05-3140-406E-9132-A904E771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497-7E44-42E3-87DF-FF13198F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D0D0-1692-4DF9-9E2F-967B3EAA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C802-69BD-4F69-A87C-EBFE4382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0B9-109A-41E1-943B-A91E7EC1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23D-4CCC-4E89-B4C0-97409ACD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DCC-C83F-4E59-8332-C80C2F87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C6CF-B030-452E-AD28-D771E117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ADB-8F2F-489E-9BB9-1762C939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0977-4FB5-48B4-A26E-4DFEF02C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2EE-8773-47DA-A9CE-A2FDA79D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57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esson 3 The 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A0BD-96B8-4F11-86C6-F885CB7804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5257800" y="62485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entral Processing Unit (CP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33520" y="11113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ntral Processing Un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 silicon chip that is the ‘brain’ of of a computer syste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33520" y="4267080"/>
            <a:ext cx="48765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rol unit (C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ithmetic and Logic unit (AL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33520" y="20574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executes program instructions and data and controls all the devices within th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Object 9"/>
          <p:cNvGraphicFramePr/>
          <p:nvPr/>
        </p:nvGraphicFramePr>
        <p:xfrm>
          <a:off x="5562720" y="1219320"/>
          <a:ext cx="29685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219320"/>
                    <a:ext cx="29685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Text Box 10"/>
          <p:cNvSpPr/>
          <p:nvPr/>
        </p:nvSpPr>
        <p:spPr>
          <a:xfrm>
            <a:off x="533520" y="3200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’s internal organisation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consists of 3 main par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2"/>
          <p:cNvGraphicFramePr/>
          <p:nvPr/>
        </p:nvGraphicFramePr>
        <p:xfrm>
          <a:off x="609480" y="1066680"/>
          <a:ext cx="144792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14479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3"/>
          <p:cNvGraphicFramePr/>
          <p:nvPr/>
        </p:nvGraphicFramePr>
        <p:xfrm>
          <a:off x="2286000" y="990720"/>
          <a:ext cx="5943600" cy="475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990720"/>
                    <a:ext cx="594360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4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MD Athlon XP 2200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:\Departments\Computing\Courses\HS [H] Computing\1 Computer Systems\Outcome 1 Computer Organisation\3 Organisation\Pentium 4.jpg"/>
          <p:cNvPicPr/>
          <p:nvPr/>
        </p:nvPicPr>
        <p:blipFill>
          <a:blip r:embed="rId1"/>
          <a:stretch/>
        </p:blipFill>
        <p:spPr>
          <a:xfrm>
            <a:off x="2438280" y="990720"/>
            <a:ext cx="5105520" cy="51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3"/>
          <p:cNvGraphicFramePr/>
          <p:nvPr/>
        </p:nvGraphicFramePr>
        <p:xfrm>
          <a:off x="657360" y="990720"/>
          <a:ext cx="124776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7360" y="990720"/>
                    <a:ext cx="12477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4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l Pentium 4 2.533 Ghz Socket 4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side the 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76320" y="838080"/>
            <a:ext cx="8915400" cy="5715000"/>
            <a:chOff x="76320" y="838080"/>
            <a:chExt cx="8915400" cy="5715000"/>
          </a:xfrm>
        </p:grpSpPr>
        <p:grpSp>
          <p:nvGrpSpPr>
            <p:cNvPr id="60" name="Group 4"/>
            <p:cNvGrpSpPr/>
            <p:nvPr/>
          </p:nvGrpSpPr>
          <p:grpSpPr>
            <a:xfrm>
              <a:off x="76320" y="838080"/>
              <a:ext cx="8915400" cy="4419360"/>
              <a:chOff x="76320" y="838080"/>
              <a:chExt cx="8915400" cy="4419360"/>
            </a:xfrm>
          </p:grpSpPr>
          <p:sp>
            <p:nvSpPr>
              <p:cNvPr id="61" name="Rectangle 5"/>
              <p:cNvSpPr/>
              <p:nvPr/>
            </p:nvSpPr>
            <p:spPr>
              <a:xfrm>
                <a:off x="76320" y="1066320"/>
                <a:ext cx="3886200" cy="3581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Group 6"/>
              <p:cNvGrpSpPr/>
              <p:nvPr/>
            </p:nvGrpSpPr>
            <p:grpSpPr>
              <a:xfrm>
                <a:off x="228600" y="838080"/>
                <a:ext cx="8763120" cy="4419360"/>
                <a:chOff x="228600" y="838080"/>
                <a:chExt cx="8763120" cy="4419360"/>
              </a:xfrm>
            </p:grpSpPr>
            <p:sp>
              <p:nvSpPr>
                <p:cNvPr id="63" name="Rectangle 7"/>
                <p:cNvSpPr/>
                <p:nvPr/>
              </p:nvSpPr>
              <p:spPr>
                <a:xfrm>
                  <a:off x="2209680" y="3504960"/>
                  <a:ext cx="1600200" cy="99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Text Box 8"/>
                <p:cNvSpPr/>
                <p:nvPr/>
              </p:nvSpPr>
              <p:spPr>
                <a:xfrm>
                  <a:off x="2286000" y="3639600"/>
                  <a:ext cx="1523880" cy="98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ontrol Uni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Rectangle 9"/>
                <p:cNvSpPr/>
                <p:nvPr/>
              </p:nvSpPr>
              <p:spPr>
                <a:xfrm>
                  <a:off x="2209680" y="2361960"/>
                  <a:ext cx="1600200" cy="99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10"/>
                <p:cNvSpPr/>
                <p:nvPr/>
              </p:nvSpPr>
              <p:spPr>
                <a:xfrm>
                  <a:off x="2209680" y="1218960"/>
                  <a:ext cx="1600200" cy="99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Rectangle 11"/>
                <p:cNvSpPr/>
                <p:nvPr/>
              </p:nvSpPr>
              <p:spPr>
                <a:xfrm>
                  <a:off x="228600" y="3504960"/>
                  <a:ext cx="1600200" cy="99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Text Box 12"/>
                <p:cNvSpPr/>
                <p:nvPr/>
              </p:nvSpPr>
              <p:spPr>
                <a:xfrm>
                  <a:off x="304920" y="3579480"/>
                  <a:ext cx="1447560" cy="91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rithmetic and Logic Unit (ALU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Rectangle 13"/>
                <p:cNvSpPr/>
                <p:nvPr/>
              </p:nvSpPr>
              <p:spPr>
                <a:xfrm>
                  <a:off x="228600" y="1218960"/>
                  <a:ext cx="1600200" cy="1828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Text Box 14"/>
                <p:cNvSpPr/>
                <p:nvPr/>
              </p:nvSpPr>
              <p:spPr>
                <a:xfrm>
                  <a:off x="304920" y="1752120"/>
                  <a:ext cx="1447560" cy="642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Other register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15"/>
                <p:cNvSpPr/>
                <p:nvPr/>
              </p:nvSpPr>
              <p:spPr>
                <a:xfrm>
                  <a:off x="2286000" y="1294920"/>
                  <a:ext cx="1523880" cy="91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Memory Address Regist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Text Box 16"/>
                <p:cNvSpPr/>
                <p:nvPr/>
              </p:nvSpPr>
              <p:spPr>
                <a:xfrm>
                  <a:off x="2286000" y="2436480"/>
                  <a:ext cx="1523880" cy="91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Memory Data Regist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17"/>
                <p:cNvSpPr/>
                <p:nvPr/>
              </p:nvSpPr>
              <p:spPr>
                <a:xfrm>
                  <a:off x="7086600" y="838080"/>
                  <a:ext cx="1905120" cy="44193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Text Box 18"/>
                <p:cNvSpPr/>
                <p:nvPr/>
              </p:nvSpPr>
              <p:spPr>
                <a:xfrm>
                  <a:off x="7467480" y="2590560"/>
                  <a:ext cx="1219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Main Memor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19"/>
                <p:cNvSpPr/>
                <p:nvPr/>
              </p:nvSpPr>
              <p:spPr>
                <a:xfrm>
                  <a:off x="3809880" y="1676160"/>
                  <a:ext cx="3276720" cy="0"/>
                </a:xfrm>
                <a:prstGeom prst="line">
                  <a:avLst/>
                </a:prstGeom>
                <a:ln w="263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20"/>
                <p:cNvSpPr/>
                <p:nvPr/>
              </p:nvSpPr>
              <p:spPr>
                <a:xfrm>
                  <a:off x="1828800" y="1676160"/>
                  <a:ext cx="380880" cy="0"/>
                </a:xfrm>
                <a:prstGeom prst="line">
                  <a:avLst/>
                </a:prstGeom>
                <a:ln w="263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21"/>
                <p:cNvSpPr/>
                <p:nvPr/>
              </p:nvSpPr>
              <p:spPr>
                <a:xfrm>
                  <a:off x="3809880" y="2895120"/>
                  <a:ext cx="3276720" cy="0"/>
                </a:xfrm>
                <a:prstGeom prst="line">
                  <a:avLst/>
                </a:prstGeom>
                <a:ln w="26352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22"/>
                <p:cNvSpPr/>
                <p:nvPr/>
              </p:nvSpPr>
              <p:spPr>
                <a:xfrm>
                  <a:off x="3809880" y="4038120"/>
                  <a:ext cx="3276720" cy="0"/>
                </a:xfrm>
                <a:prstGeom prst="line">
                  <a:avLst/>
                </a:prstGeom>
                <a:ln w="26352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23"/>
                <p:cNvSpPr/>
                <p:nvPr/>
              </p:nvSpPr>
              <p:spPr>
                <a:xfrm>
                  <a:off x="1828800" y="4038120"/>
                  <a:ext cx="380880" cy="0"/>
                </a:xfrm>
                <a:prstGeom prst="line">
                  <a:avLst/>
                </a:prstGeom>
                <a:ln w="263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24"/>
                <p:cNvSpPr/>
                <p:nvPr/>
              </p:nvSpPr>
              <p:spPr>
                <a:xfrm>
                  <a:off x="1828800" y="2895120"/>
                  <a:ext cx="380880" cy="0"/>
                </a:xfrm>
                <a:prstGeom prst="line">
                  <a:avLst/>
                </a:prstGeom>
                <a:ln w="263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25"/>
                <p:cNvSpPr/>
                <p:nvPr/>
              </p:nvSpPr>
              <p:spPr>
                <a:xfrm flipV="1">
                  <a:off x="990720" y="3047400"/>
                  <a:ext cx="0" cy="456840"/>
                </a:xfrm>
                <a:prstGeom prst="line">
                  <a:avLst/>
                </a:prstGeom>
                <a:ln w="263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Text Box 26"/>
                <p:cNvSpPr/>
                <p:nvPr/>
              </p:nvSpPr>
              <p:spPr>
                <a:xfrm>
                  <a:off x="4343400" y="1080720"/>
                  <a:ext cx="20574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ddress bu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Text Box 27"/>
                <p:cNvSpPr/>
                <p:nvPr/>
              </p:nvSpPr>
              <p:spPr>
                <a:xfrm>
                  <a:off x="4419720" y="2300040"/>
                  <a:ext cx="20574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Data bu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Text Box 28"/>
                <p:cNvSpPr/>
                <p:nvPr/>
              </p:nvSpPr>
              <p:spPr>
                <a:xfrm>
                  <a:off x="4038480" y="3443040"/>
                  <a:ext cx="29718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ontrol Bus (Read / Write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" name="Rectangle 29"/>
            <p:cNvSpPr/>
            <p:nvPr/>
          </p:nvSpPr>
          <p:spPr>
            <a:xfrm>
              <a:off x="2209680" y="5562360"/>
              <a:ext cx="1600200" cy="99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0"/>
            <p:cNvSpPr/>
            <p:nvPr/>
          </p:nvSpPr>
          <p:spPr>
            <a:xfrm>
              <a:off x="2362320" y="56386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ctronic 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31"/>
            <p:cNvSpPr/>
            <p:nvPr/>
          </p:nvSpPr>
          <p:spPr>
            <a:xfrm flipV="1">
              <a:off x="2971800" y="4495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32"/>
            <p:cNvSpPr/>
            <p:nvPr/>
          </p:nvSpPr>
          <p:spPr>
            <a:xfrm>
              <a:off x="3048120" y="489096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lock pul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ontrol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30924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t manages fetch, decode and execute program instru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0"/>
          <p:cNvGraphicFramePr/>
          <p:nvPr/>
        </p:nvGraphicFramePr>
        <p:xfrm>
          <a:off x="4495680" y="1905120"/>
          <a:ext cx="464832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05120"/>
                    <a:ext cx="464832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8"/>
          <p:cNvSpPr/>
          <p:nvPr/>
        </p:nvSpPr>
        <p:spPr>
          <a:xfrm>
            <a:off x="457200" y="4952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ynchronis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whole system by telling devices what to do and when to d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33520" y="1263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nds signals to other parts of the compu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Arithmetic and Logic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10666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L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s where data is actually processed in the 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4724280" y="1790640"/>
          <a:ext cx="4267440" cy="32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90640"/>
                    <a:ext cx="426744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5"/>
          <p:cNvSpPr/>
          <p:nvPr/>
        </p:nvSpPr>
        <p:spPr>
          <a:xfrm>
            <a:off x="533520" y="16747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ing data in the ALU involves doing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ithmeti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alculations e.g. add, subtract, multiply, divide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33520" y="297036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so invol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mparisons like AND, OR etc. using electronic circui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520" y="4265640"/>
            <a:ext cx="51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LU uses special arithmetic registers to temporarily store data and results of calculations e.g.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33520" y="9907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egis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very fast storage locations inside the processor itself.  There are many registers including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33520" y="1828800"/>
            <a:ext cx="45720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 address register (MA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holds the address of a location 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 data register (MD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holds data just read from or written to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counter (P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holds the address of the next instruction to be fet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 register (I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holds the current instruction being exec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purpose regis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can be used by programm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8"/>
          <p:cNvGraphicFramePr/>
          <p:nvPr/>
        </p:nvGraphicFramePr>
        <p:xfrm>
          <a:off x="5076720" y="2430360"/>
          <a:ext cx="361008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2430360"/>
                    <a:ext cx="361008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3:30:43Z</dcterms:created>
  <dc:creator>Administrator</dc:creator>
  <dc:description/>
  <dc:language>en-US</dc:language>
  <cp:lastModifiedBy> </cp:lastModifiedBy>
  <dcterms:modified xsi:type="dcterms:W3CDTF">2009-04-09T18:55:28Z</dcterms:modified>
  <cp:revision>20</cp:revision>
  <dc:subject/>
  <dc:title>PowerPoint Presentation</dc:title>
</cp:coreProperties>
</file>