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E79-7470-4AE1-88B7-3B417B0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B07-C404-4504-A365-49519AC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D44-E1F3-46E4-879A-4B0520E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5ED-E4BA-4934-8CC2-593852A9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8A3-E0A5-4575-8A78-74E7F2A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1BA-EE42-405B-8785-D2DF004C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D16-50D0-4C3B-922E-0340BC7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8AE-92FF-4380-9377-11566B0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E72-3E02-4077-9A5F-F5DD2B2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C3A-A4E7-41DD-B9AF-502C073B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E0A-AC6F-4EC8-8EB9-19D64713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5F9-2D6C-4BA3-8878-A74457A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5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sson 3 The 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946-ABA0-47F0-8BFF-763B70512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3520" y="111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silicon chip that is the ‘brain’ of of a computer sys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4267080"/>
            <a:ext cx="4876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 unit (C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 and Logic unit (AL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xecutes program instructions and data and controls all the devices within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5562720" y="1219320"/>
          <a:ext cx="2968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19320"/>
                    <a:ext cx="2968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10"/>
          <p:cNvSpPr/>
          <p:nvPr/>
        </p:nvSpPr>
        <p:spPr>
          <a:xfrm>
            <a:off x="5335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’s internal organisation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consists of 3 main par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609480" y="1066680"/>
          <a:ext cx="14479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4479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2286000" y="990720"/>
          <a:ext cx="5943600" cy="47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5943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MD Athlon XP 2200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:\Departments\Computing\Courses\HS [H] Computing\1 Computer Systems\Outcome 1 Computer Organisation\3 Organisation\Pentium 4.jpg"/>
          <p:cNvPicPr/>
          <p:nvPr/>
        </p:nvPicPr>
        <p:blipFill>
          <a:blip r:embed="rId1"/>
          <a:stretch/>
        </p:blipFill>
        <p:spPr>
          <a:xfrm>
            <a:off x="2438280" y="990720"/>
            <a:ext cx="510552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657360" y="990720"/>
          <a:ext cx="124776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990720"/>
                    <a:ext cx="1247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l Pentium 4 2.533 Ghz Socket 4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de the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76320" y="838080"/>
            <a:ext cx="8915400" cy="5715000"/>
            <a:chOff x="76320" y="838080"/>
            <a:chExt cx="8915400" cy="5715000"/>
          </a:xfrm>
        </p:grpSpPr>
        <p:grpSp>
          <p:nvGrpSpPr>
            <p:cNvPr id="60" name="Group 4"/>
            <p:cNvGrpSpPr/>
            <p:nvPr/>
          </p:nvGrpSpPr>
          <p:grpSpPr>
            <a:xfrm>
              <a:off x="76320" y="838080"/>
              <a:ext cx="8915400" cy="4419360"/>
              <a:chOff x="76320" y="838080"/>
              <a:chExt cx="8915400" cy="441936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76320" y="1066320"/>
                <a:ext cx="3886200" cy="3581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6"/>
              <p:cNvGrpSpPr/>
              <p:nvPr/>
            </p:nvGrpSpPr>
            <p:grpSpPr>
              <a:xfrm>
                <a:off x="228600" y="838080"/>
                <a:ext cx="8763120" cy="4419360"/>
                <a:chOff x="228600" y="838080"/>
                <a:chExt cx="8763120" cy="4419360"/>
              </a:xfrm>
            </p:grpSpPr>
            <p:sp>
              <p:nvSpPr>
                <p:cNvPr id="63" name="Rectangle 7"/>
                <p:cNvSpPr/>
                <p:nvPr/>
              </p:nvSpPr>
              <p:spPr>
                <a:xfrm>
                  <a:off x="220968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Text Box 8"/>
                <p:cNvSpPr/>
                <p:nvPr/>
              </p:nvSpPr>
              <p:spPr>
                <a:xfrm>
                  <a:off x="2286000" y="3639600"/>
                  <a:ext cx="1523880" cy="98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Un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2209680" y="2361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0"/>
                <p:cNvSpPr/>
                <p:nvPr/>
              </p:nvSpPr>
              <p:spPr>
                <a:xfrm>
                  <a:off x="2209680" y="1218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1"/>
                <p:cNvSpPr/>
                <p:nvPr/>
              </p:nvSpPr>
              <p:spPr>
                <a:xfrm>
                  <a:off x="22860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Text Box 12"/>
                <p:cNvSpPr/>
                <p:nvPr/>
              </p:nvSpPr>
              <p:spPr>
                <a:xfrm>
                  <a:off x="304920" y="3579480"/>
                  <a:ext cx="144756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rithmetic and Logic Unit (ALU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3"/>
                <p:cNvSpPr/>
                <p:nvPr/>
              </p:nvSpPr>
              <p:spPr>
                <a:xfrm>
                  <a:off x="228600" y="1218960"/>
                  <a:ext cx="1600200" cy="182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Text Box 14"/>
                <p:cNvSpPr/>
                <p:nvPr/>
              </p:nvSpPr>
              <p:spPr>
                <a:xfrm>
                  <a:off x="304920" y="1752120"/>
                  <a:ext cx="1447560" cy="6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Other regis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5"/>
                <p:cNvSpPr/>
                <p:nvPr/>
              </p:nvSpPr>
              <p:spPr>
                <a:xfrm>
                  <a:off x="2286000" y="129492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Address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Text Box 16"/>
                <p:cNvSpPr/>
                <p:nvPr/>
              </p:nvSpPr>
              <p:spPr>
                <a:xfrm>
                  <a:off x="2286000" y="243648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Data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7"/>
                <p:cNvSpPr/>
                <p:nvPr/>
              </p:nvSpPr>
              <p:spPr>
                <a:xfrm>
                  <a:off x="7086600" y="838080"/>
                  <a:ext cx="1905120" cy="44193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Text Box 18"/>
                <p:cNvSpPr/>
                <p:nvPr/>
              </p:nvSpPr>
              <p:spPr>
                <a:xfrm>
                  <a:off x="7467480" y="259056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ain Mem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19"/>
                <p:cNvSpPr/>
                <p:nvPr/>
              </p:nvSpPr>
              <p:spPr>
                <a:xfrm>
                  <a:off x="3809880" y="167616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20"/>
                <p:cNvSpPr/>
                <p:nvPr/>
              </p:nvSpPr>
              <p:spPr>
                <a:xfrm>
                  <a:off x="1828800" y="167616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21"/>
                <p:cNvSpPr/>
                <p:nvPr/>
              </p:nvSpPr>
              <p:spPr>
                <a:xfrm>
                  <a:off x="3809880" y="2895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2"/>
                <p:cNvSpPr/>
                <p:nvPr/>
              </p:nvSpPr>
              <p:spPr>
                <a:xfrm>
                  <a:off x="3809880" y="4038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23"/>
                <p:cNvSpPr/>
                <p:nvPr/>
              </p:nvSpPr>
              <p:spPr>
                <a:xfrm>
                  <a:off x="1828800" y="4038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24"/>
                <p:cNvSpPr/>
                <p:nvPr/>
              </p:nvSpPr>
              <p:spPr>
                <a:xfrm>
                  <a:off x="1828800" y="2895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25"/>
                <p:cNvSpPr/>
                <p:nvPr/>
              </p:nvSpPr>
              <p:spPr>
                <a:xfrm flipV="1">
                  <a:off x="990720" y="3047400"/>
                  <a:ext cx="0" cy="45684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Text Box 26"/>
                <p:cNvSpPr/>
                <p:nvPr/>
              </p:nvSpPr>
              <p:spPr>
                <a:xfrm>
                  <a:off x="4343400" y="108072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ddress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Text Box 27"/>
                <p:cNvSpPr/>
                <p:nvPr/>
              </p:nvSpPr>
              <p:spPr>
                <a:xfrm>
                  <a:off x="4419720" y="230004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ata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28"/>
                <p:cNvSpPr/>
                <p:nvPr/>
              </p:nvSpPr>
              <p:spPr>
                <a:xfrm>
                  <a:off x="4038480" y="3443040"/>
                  <a:ext cx="2971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Bus (Read / Writ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Rectangle 29"/>
            <p:cNvSpPr/>
            <p:nvPr/>
          </p:nvSpPr>
          <p:spPr>
            <a:xfrm>
              <a:off x="2209680" y="5562360"/>
              <a:ext cx="16002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2362320" y="56386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ctronic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 flipV="1">
              <a:off x="2971800" y="449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3048120" y="48909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ock pul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3092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manages fetch, decode and execute program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495680" y="1905120"/>
          <a:ext cx="46483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8"/>
          <p:cNvSpPr/>
          <p:nvPr/>
        </p:nvSpPr>
        <p:spPr>
          <a:xfrm>
            <a:off x="457200" y="4952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nchron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whole system by telling devices what to do and when to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126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ds signals to other parts of the compu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rithmetic and Logic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066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L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s where data is actually processed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724280" y="1790640"/>
          <a:ext cx="426744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90640"/>
                    <a:ext cx="426744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5"/>
          <p:cNvSpPr/>
          <p:nvPr/>
        </p:nvSpPr>
        <p:spPr>
          <a:xfrm>
            <a:off x="533520" y="16747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ing data in the ALU involves do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tions e.g. add, subtract, multiply, divid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2970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invol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isons like AND, OR etc. using electronic circui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426564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LU uses special arithmetic registers to temporarily store data and results of calculations e.g.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990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very fast storage locations inside the processor itself.  There are many registers includ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828800"/>
            <a:ext cx="4572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 (M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a location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 (M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data just read from or written to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unter (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the next instruction to be 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register (I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current instruction being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purpose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an be used by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5076720" y="2430360"/>
          <a:ext cx="361008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430360"/>
                    <a:ext cx="361008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3:30:43Z</dcterms:created>
  <dc:creator>Administrator</dc:creator>
  <dc:description/>
  <dc:language>en-US</dc:language>
  <cp:lastModifiedBy> </cp:lastModifiedBy>
  <dcterms:modified xsi:type="dcterms:W3CDTF">2009-04-09T18:55:28Z</dcterms:modified>
  <cp:revision>20</cp:revision>
  <dc:subject/>
  <dc:title>PowerPoint Presentation</dc:title>
</cp:coreProperties>
</file>